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8DB9-81BD-44A8-B434-DD1E679C3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7406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1E17-52CA-4149-A16B-11E60F47F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7406d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7C57-D711-4E9E-99E8-9E21BA001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7406d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B2D5-6FD2-403C-BE72-29428A8D8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D0C04-9A32-4A5A-A451-365C2C96E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7406d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E4FE9-2EC4-4309-8C4F-22EB07D0E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7406d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356C2-8C09-4B84-81E2-8079608C4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7406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733CA-7D86-49F0-A5BA-15B5F68E4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7406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3B351-7020-42A6-B1D9-06FB984F5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8808A-1D1C-436F-9C2B-8EC3F28A1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7406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AD85C-938D-463F-A7E0-06BE790E3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7406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CA35-478E-4F0F-92DA-50D372422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7406d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109D7-A29F-404D-AB0B-30BC8D75D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7406d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285B1-00EF-4FD1-9E78-03B4A7F41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7406d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F3232-C643-4D51-A074-75AB76431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7406d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02AD5-0A0C-4517-B099-233B5B73D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7406d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8D960-3608-44FB-98B6-B91918312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9B283-EE74-4D2F-8DB9-C5EE087AF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7406d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E2BB1-E596-4099-88DF-D11714D47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7406d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FCDB1-564A-4BE4-BAD2-DD6A947E7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7406d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A2316-993A-460A-8980-06D1D338F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7406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06617-2070-47B8-9B64-71368A18D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7406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E2AA-C13B-4233-B553-88E857E3D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C403F-6BDE-43B2-B9C6-8D9926C22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7406d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86D88-AB01-4AAF-A660-E6DFF4D87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7406d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758ED-6712-406E-AEB8-8D576DAFC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7406d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A9E05-A66F-42DF-9C87-8D8402EA5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7406d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BD50B-FBC4-4D6A-B1DF-E5400A21A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7406d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86F97-5149-4B26-B87D-F063E8805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7406d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986EA-0572-47A7-84E0-89CE765AC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CE281-48EE-4BC9-B3A7-A0CB126F2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7406d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F996A-1500-4E8C-9E32-2FEE94B76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7406d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554CC-B5ED-4DE5-9625-C1FDD3958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7406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FE11-5D6F-4E94-8BD1-2714C1A6A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7406d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51097-0C0F-4219-8E2B-20413EB40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7406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2BEBD-9201-4B36-B3F1-45A4F76CF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2A6AE-C000-4AA2-B466-CE859A61E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7406d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E3152-9D33-4F8D-9471-F0088287E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7406d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BD336-D391-466E-9E2D-1BCA704C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7406d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76BB7-FE67-4C4C-9129-0E6B6CFD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7406d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08D74-64DC-4BF9-A00A-D67C17A7A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7406d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76D14-0D84-41A5-949C-B2DBB8E39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7406d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6F921-D9B7-4E4F-8F06-90F41F1FB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7406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87D2-F0CA-4C71-9EB8-EE3A1F570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698E-3501-4C9B-A689-153796564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7406d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F741-6276-4662-B8CA-A77492F17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7406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FC62-0E05-4A31-8C66-31AE08FCF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7406d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503C-994E-4406-889F-BCF633296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7406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17406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53d6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53d6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4C000-11CB-4056-870C-D476A18FC5A8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ef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ef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4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4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7261E-004C-46A7-9D92-741E5ADAB744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ef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ef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4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4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1A9D4-8B81-4F29-BBB6-045E46A2E517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7406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17406d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53d6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53d6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4732B-E2F0-47DE-988A-CEC876942C18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" Target="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Заголовок 1" descr=""/>
          <p:cNvPicPr/>
          <p:nvPr/>
        </p:nvPicPr>
        <p:blipFill>
          <a:blip r:embed="rId2"/>
          <a:stretch/>
        </p:blipFill>
        <p:spPr>
          <a:xfrm>
            <a:off x="1017720" y="384120"/>
            <a:ext cx="7864200" cy="18828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http://go2.imgsmail.ru/imgpreview?u=http%3A//www.lossofsoul.com/DEATH/suicide/70.jpg&amp;mb=52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132000" y="3141720"/>
            <a:ext cx="3571920" cy="353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Внешний вид и поведение подростка, склонного к суициду</a:t>
            </a:r>
            <a:endParaRPr b="0" lang="en-US" sz="3600" spc="-1" strike="noStrike">
              <a:solidFill>
                <a:srgbClr val="17406d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500120" y="2214720"/>
            <a:ext cx="491184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двигательное возбуждение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стремление к самоповреждению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неряшливость в одежде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запущенный вид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экспрессивно- патетические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формы поведения (заламывание рук, стоны, рыдания)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агрессивное поведение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Сигналы опасности</a:t>
            </a:r>
            <a:endParaRPr b="0" lang="en-US" sz="4000" spc="-1" strike="noStrike">
              <a:solidFill>
                <a:srgbClr val="17406d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Поведенческие признаки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раздача ценных вещей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иведение дел в порядок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ощание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исьменные указания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имирение с давними врагами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демонстрация радикальных перемен в поведени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Сигналы опасности</a:t>
            </a:r>
            <a:endParaRPr b="0" lang="en-US" sz="4000" spc="-1" strike="noStrike">
              <a:solidFill>
                <a:srgbClr val="17406d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479240" y="1980720"/>
            <a:ext cx="752148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ловесные признаки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ловесное предупреждение или угрозы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шутки на тему самоубийства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ездоровая заинтересованность вопросами смерт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итуационные признаки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оциальная изоляция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ерьезный кризис в семье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асилие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C:\Users\admin\Desktop\разобрать рс\создание презентаций\5___\126 фоны для презентаций\10213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72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Если замечена склонность школьника к самоубийству, воспользуйтесь следующими рекомендациями, которые помогут изменить ситуацию:</a:t>
            </a:r>
            <a:endParaRPr b="0" lang="en-US" sz="2800" spc="-1" strike="noStrike">
              <a:solidFill>
                <a:srgbClr val="17406d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становите доверительные взаимоотношения с подростко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нимательно выслушайт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цените серьезность намерений и чувств ребенк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е спорьт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давайте вопрос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важайте ребёнка, его мнени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старайтесь акцентировать внимание ребенка позитивных моментах жизн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идайте уверенности учащемус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братитесь за помощью к специалиста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c00000"/>
                </a:solidFill>
                <a:latin typeface="Calibri"/>
              </a:rPr>
              <a:t>КУВШИН НАШИХ ЭМОЦИЙ</a:t>
            </a:r>
            <a:endParaRPr b="0" lang="en-US" sz="5000" spc="-1" strike="noStrike">
              <a:solidFill>
                <a:srgbClr val="17406d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68360" y="1412640"/>
            <a:ext cx="403848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ГНЕВ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ЗЛОБ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АГРЕССИЯ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ТРЕБНОСТИ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 ЛЮБВИ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 СВОБОДЕ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 ПОНИМАНИИ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 НЕЗАВИСИМОСТИ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О ВНИМАНИИ        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 САМООПРЕДЕЛЕНИИ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ТРЕМЛЕНИЕ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Я -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ХОРОШИ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Я - ЛЮБИМ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649760" y="1666440"/>
            <a:ext cx="4038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СТРАХ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            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БОЛЬ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ОБИД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Rectangle 5"/>
          <p:cNvSpPr/>
          <p:nvPr/>
        </p:nvSpPr>
        <p:spPr>
          <a:xfrm>
            <a:off x="4716360" y="2901960"/>
            <a:ext cx="4562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УСПЕХЕ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АМОСОВЕРШЕНСТ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УВАЖЕНИИ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РЕАЛИЗАЦИИ СОБСТВЕННОГО ПОТЕНЦИ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АМОУВАЖЕ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ЛАСК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АМОРАЗВИТИ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5892840" y="5689440"/>
            <a:ext cx="456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 -  МОГ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 - ЕСТЬ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c00000"/>
                </a:solidFill>
                <a:latin typeface="Calibri"/>
              </a:rPr>
              <a:t>Спасибо за внимание!</a:t>
            </a:r>
            <a:endParaRPr b="0" lang="en-US" sz="5000" spc="-1" strike="noStrike">
              <a:solidFill>
                <a:srgbClr val="17406d"/>
              </a:solidFill>
              <a:latin typeface="Calibri"/>
            </a:endParaRPr>
          </a:p>
        </p:txBody>
      </p:sp>
      <p:pic>
        <p:nvPicPr>
          <p:cNvPr id="244" name="Picture 6" descr="18"/>
          <p:cNvPicPr/>
          <p:nvPr/>
        </p:nvPicPr>
        <p:blipFill>
          <a:blip r:embed="rId2"/>
          <a:stretch/>
        </p:blipFill>
        <p:spPr>
          <a:xfrm>
            <a:off x="3019320" y="1935000"/>
            <a:ext cx="3105360" cy="438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77880" y="1052280"/>
            <a:ext cx="778680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nstantia"/>
              </a:rPr>
              <a:t>Суицид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-  намеренное лишение себя жизни или попытка нанести себе травмы, несовместимые с жизнью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уициды делятся на три основные группы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стинный суицид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Демонстративный суицид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крытый суицид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Суицидальное поведение</a:t>
            </a:r>
            <a:endParaRPr b="0" lang="en-US" sz="4000" spc="-1" strike="noStrike">
              <a:solidFill>
                <a:srgbClr val="17406d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356840" y="1714320"/>
            <a:ext cx="792972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уицидальное поведение – осознанные действия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аправляемые представлениями о лишении себя жизн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 структуру суицидального поведения входят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обственно суицид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уицидальные намерения (пресуицид: мысли, чувства, высказывания, намеки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уицидальные действия (парасуицид - незавершенные суицидальные действия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6f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C:\Users\admin\Desktop\разобрать рс\создание презентаций\5___\126 фоны для презентаций\10213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СУИЦИДАЛЬНОЕ ПОВЕДЕНИЕ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КАК ОСОБЫЙ ВИД ОТКЛОНЯЮЩЕГОСЯ ПОВЕДЕНИЯ ПОДРОСТКОВ </a:t>
            </a:r>
            <a:endParaRPr b="0" lang="en-US" sz="2400" spc="-1" strike="noStrike">
              <a:solidFill>
                <a:srgbClr val="17406d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уицидальное поведение относится к распространенной патологии поведения подростков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менно в этом возрастном периоде оно отличается многообразием: это суицидальные мысли, намерения, высказывания, угрозы, попытк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До 13-летнего возраста суицидальные попытки практически не встречаются. Начиная с 14—15 лет эта активность резко возрастает, достигая максимума к 16-19 года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C:\Users\admin\Desktop\разобрать рс\создание презентаций\5___\126 фоны для презентаций\10213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ОЗ рекомендует основную причину детских самоубийств искать в семье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емонстрация намерения совершить самоубийство – это «крик о помощи»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Чаще всего суицидальные поступки  подростки совершают в дневное и вечернее время (80%), когда поблизости есть те, кто может их остановить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ремя года: больше всего самоубийств регистрируется весной, когда человеческие несчастья контрастируют с цветением окружающей природы (апрель)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C:\Users\admin\Desktop\разобрать рс\создание презентаций\5___\126 фоны для презентаций\10213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c00000"/>
                </a:solidFill>
                <a:uFillTx/>
                <a:latin typeface="Calibri"/>
              </a:rPr>
              <a:t>В большинстве случаев попытки суицида можно предугадать и предотвратить!</a:t>
            </a:r>
            <a:endParaRPr b="0" lang="en-US" sz="3600" spc="-1" strike="noStrike">
              <a:solidFill>
                <a:srgbClr val="17406d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42560" y="1600200"/>
            <a:ext cx="85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освенно большинство детей, покушавшихся на самоубийство, предупреждали ближайшее окружение о своем намерении покончить с жизнью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C:\Users\admin\Desktop\разобрать рс\создание презентаций\5___\126 фоны для презентаций\10213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8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Суицидальные проявления</a:t>
            </a:r>
            <a:br>
              <a:rPr sz="3600"/>
            </a:br>
            <a:br>
              <a:rPr sz="3600"/>
            </a:b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 внутренние                  внешние                         </a:t>
            </a:r>
            <a:br>
              <a:rPr sz="3600"/>
            </a:br>
            <a:endParaRPr b="0" lang="en-US" sz="3200" spc="-1" strike="noStrike">
              <a:solidFill>
                <a:srgbClr val="17406d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213840" y="2332080"/>
            <a:ext cx="4286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    суицидальные мысли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фантазии на тему смерти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уицидальные замыслы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уицидальные намерени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20" name="Прямая со стрелкой 5"/>
          <p:cNvCxnSpPr/>
          <p:nvPr/>
        </p:nvCxnSpPr>
        <p:spPr>
          <a:xfrm>
            <a:off x="4857840" y="1213920"/>
            <a:ext cx="1072080" cy="42948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21" name="Прямая со стрелкой 6"/>
          <p:cNvCxnSpPr/>
          <p:nvPr/>
        </p:nvCxnSpPr>
        <p:spPr>
          <a:xfrm flipH="1">
            <a:off x="2999520" y="1213200"/>
            <a:ext cx="1072440" cy="42948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22" name="Содержимое 2"/>
          <p:cNvSpPr/>
          <p:nvPr/>
        </p:nvSpPr>
        <p:spPr>
          <a:xfrm>
            <a:off x="4714920" y="2332080"/>
            <a:ext cx="40003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ицидальные попытки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вершенный суици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C:\Users\admin\Desktop\разобрать рс\создание презентаций\5___\126 фоны для презентаций\10213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17406d"/>
                </a:solidFill>
                <a:latin typeface="Calibri"/>
              </a:rPr>
              <a:t>Причины депрессии у подростков</a:t>
            </a:r>
            <a:endParaRPr b="0" lang="en-US" sz="3600" spc="-1" strike="noStrike">
              <a:solidFill>
                <a:srgbClr val="17406d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285480" y="1285920"/>
            <a:ext cx="85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егативное отношение к своему телу в период полового созревани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иобретенная в этот период способность критически воспринимать любую ситуацию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диночество, низкая популярность среди сверстнико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Трудности в обучении, низкая школьная успеваемость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2" descr=""/>
          <p:cNvPicPr/>
          <p:nvPr/>
        </p:nvPicPr>
        <p:blipFill>
          <a:blip r:embed="rId2"/>
          <a:stretch/>
        </p:blipFill>
        <p:spPr>
          <a:xfrm>
            <a:off x="149400" y="222120"/>
            <a:ext cx="8715240" cy="6413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Внешний вид и поведение подростка, склонного к суициду</a:t>
            </a:r>
            <a:endParaRPr b="0" lang="en-US" sz="3600" spc="-1" strike="noStrike">
              <a:solidFill>
                <a:srgbClr val="17406d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1356840" y="1928880"/>
            <a:ext cx="7626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тоскливое выражение лица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тихий монотонный голос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замедленная речь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раткость ответов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тсутствие ответов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бщая двигательная заторможенность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бездеятельность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4T07:55:38Z</dcterms:created>
  <dc:creator>Админ</dc:creator>
  <dc:description/>
  <dc:language>en-US</dc:language>
  <cp:lastModifiedBy>Завуч</cp:lastModifiedBy>
  <cp:lastPrinted>2022-10-13T06:52:33Z</cp:lastPrinted>
  <dcterms:modified xsi:type="dcterms:W3CDTF">2024-01-12T08:03:07Z</dcterms:modified>
  <cp:revision>9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40c0000000000010243100207f6000400038000</vt:lpwstr>
  </property>
</Properties>
</file>